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EF36F-FE43-445A-B6DB-BC5B197F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6BB70-683F-4A8A-BC55-9C250463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B911B-FAAA-49A2-A08D-7E26A2E9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16250-26CA-4A45-972E-C0672A38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56F3-EC27-4263-A192-53CBFFE0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2745-3BFA-4D34-8722-9BC25BA0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9033-1554-4CF1-B0BE-E5CC04B6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4DC9-2266-4981-9825-BD0EDC13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F224-901D-442B-9EA2-68BAEC7F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3699-9982-4998-891C-F0FA83E2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6735-4C65-4D1D-B3CC-B3D503C3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2F87A-514E-4533-9317-83777D73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9E54-E107-490E-9D8B-868998A6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35EB-BBF3-446A-A41D-390D365F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F24A-B67C-400E-A175-0789DE99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6EE4-B124-47FD-B8A5-A3E67065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9677-C259-45FC-8014-E5987A19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B441D-B782-4A45-B60C-E7B375BD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B610D-3E6A-4F3F-9729-062282AC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FF993-0B4C-4606-A90E-D1E79935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EF092-298E-4321-849B-97905976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0C2F0-25A7-4FA9-A0AD-124B02A2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DFDC2-E614-4708-80C4-B728C020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2364D-9F9B-413F-8D39-5E9060D4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83CB-69EB-4F84-B3B4-C00C92E5327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C36D-C136-457B-BDC1-81BDC146626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972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9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7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О, колко радост в мисълт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дружно аз вървя с Христ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вред през светски шум и вой държи ме за ръка сам Т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431000"/>
            <a:ext cx="957744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Господа вървя аз напред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бди над моите стъпки вред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можех тъй аз всяког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ържа таз Бащина рък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252360" y="1628640"/>
            <a:ext cx="9577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Дали във тежка скръб, печал,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или в път светъл съм стигнал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през бури и блажен покой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държи ме за ръка Бог мой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252360" y="1415880"/>
            <a:ext cx="957744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Господа вървя аз напред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бди над моите стъпки вред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можех тъй аз всяког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ържа таз Бащина рък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734120"/>
            <a:ext cx="957744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Когато свърша този пъ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з пълен с изпити живо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срещна с радост и смъртта, опрян на Бащина рък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415880"/>
            <a:ext cx="957744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Господа вървя аз напред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бди над моите стъпки вред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можех тъй аз всяког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ържа таз Бащина рък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3-27T14:50:28Z</dcterms:modified>
  <cp:revision>129</cp:revision>
  <dc:subject/>
  <dc:title>Slide 1</dc:title>
</cp:coreProperties>
</file>